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927-6446-4B82-AF51-E4E8FC1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64C-8023-483E-9EF0-311680FC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B0A-BD80-4B78-831C-B1CE294E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B01-77D4-40A0-A9B1-55FA4DCB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069-4C14-4093-B897-156BB159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321-D953-4A6A-8EF4-2AD1658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7A8-05B6-47BA-8133-332EFA4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9F9-AC0E-4632-9250-83872ED8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9D9-7366-490D-896F-F0B73FF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241-A364-4294-BA90-E3B667F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5D7-EA74-4317-BA95-F762055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BE7-EDA1-4242-97EF-192AC02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4BD4-AD4F-413E-B113-8F4C33A45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700280"/>
            <a:ext cx="56894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RITNEY SPEA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374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Britney Spears published her first  video at the age of sixteen….baby one mor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84720" cy="494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11280" y="404640"/>
            <a:ext cx="7921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ER LIF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989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Britney Jean Spears (born December 2,1981) is an American, female, pop singer and act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645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She started her career at the age of eight, but they rejected her for her short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22936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692280"/>
            <a:ext cx="619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ER ALBUM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64000" y="2349360"/>
            <a:ext cx="3097080" cy="389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96000" y="2492280"/>
            <a:ext cx="3110040" cy="333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716360" y="4600440"/>
            <a:ext cx="2286000" cy="225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32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55640" y="3141720"/>
            <a:ext cx="359892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42920" y="1557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She has released five albu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1052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19280" y="2492280"/>
            <a:ext cx="57610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Y:  BELÉN HOYO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12:15Z</dcterms:created>
  <dc:creator>Alumno56</dc:creator>
  <dc:description/>
  <dc:language>en-US</dc:language>
  <cp:lastModifiedBy>Alumno56</cp:lastModifiedBy>
  <dcterms:modified xsi:type="dcterms:W3CDTF">2008-06-09T08:22:15Z</dcterms:modified>
  <cp:revision>4</cp:revision>
  <dc:subject/>
  <dc:title>Diapositiva 1</dc:title>
</cp:coreProperties>
</file>